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0A9-3638-4E1E-A221-6820864B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76F-2890-470C-BAA4-209F40B1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276-83DF-4915-BDE7-395CD4AA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CED-C246-4ED4-A813-BD485105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CBB7-7E81-489A-8C47-AD952D36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809C-0DA7-4F36-837B-2B1A76A4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6C8D-41DF-48A8-B0AB-F947D2F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5739-47F7-4238-982D-1401978B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D523-C506-49C3-A429-71D96D65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8FC1-9BF1-4177-944E-0DFF7CC0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443D-07C1-432C-886A-2F51FEFC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FFF-55ED-4C25-BD6F-B1F92EDC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0994-B254-45C5-BC7B-875245A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4428-DCE0-4DDE-B944-60C17A6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A3CD-21F4-454E-80EB-85FFB5CC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8758-63B2-497F-8223-CC89CB54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F704-8E10-479F-8B5C-AEF286DE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624DB-16EF-4825-B065-84F32E1A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B4B0A-8B6E-4402-983C-45262D1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E7A39-BB3A-464D-993A-F0C86A7B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95957-39F0-4A35-B098-0BD69E1E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D6975-A2E0-48FE-AEC2-D70BC8B5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E2A-6F25-434F-9D30-5CB113F2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2B720-43B0-4271-A417-ABA3C483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0357F-B4E0-4101-AC8E-29E0536A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D97C8-175E-438E-81B7-0CF76A3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448C4-362E-4C0F-9453-8774E18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56D90-9CB0-4F10-A41E-1EAF0F78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66B1B-7A95-40A3-98B8-57813583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FCA3A-F413-4483-B0EB-3302C9B8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5D4D-4F03-489D-AE75-D7BD2CA3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6D4D-31AC-4B5D-8A85-AEC49B86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6232-237B-4930-B58C-47969A18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AF2-A043-46D2-97F7-724259DD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EBF93-847A-4CEF-A14C-F0E2111B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8FF62-9FCE-4142-AF2B-1D075C91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8F4A7-A218-4DAA-9A9F-5EDBF67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42C3-D6FA-439D-AE60-6B89EE2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F81E-04AF-45CD-88C8-0B00BB9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EF4D8-920B-4A59-AC2B-76F92927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F73F-E79D-46F5-A6A6-F27E602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FD8A-8586-4C48-8634-C60DB3F7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1444-1800-4E00-9AD9-1CCCA16C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05001-F3D8-4FA8-8BC3-9AFE40E1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DBD-2A87-4CB3-8CFC-54F7C590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E8C16-4D14-4D82-8D8D-8815B2DE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F5980-07BB-4D63-BC91-19DD0662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3A81F-34F0-421B-9449-9518ECA5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D7A17-06B4-48C1-8F33-8C4DAE2A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40F10-9424-4CF1-90C5-38CB9740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0F62A-02EF-4ADC-A071-0A70BED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F7951-AE72-4BC6-B9C8-ECA4EFB2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677A1-C04C-4FFB-9BF5-972ACBE8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9EEEA-4840-45FB-B032-64D98A0C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995D8-635B-410E-8DF8-4267BD87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BB2-0748-46A3-BFC3-981656BF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59FED-D0E0-4822-9D47-FC240290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55A6C-2361-4C94-9635-E4C3858E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B9B08-C8B0-4674-8062-53F0BE2C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5287B-1E94-40DC-9F11-469A4F3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D2D01-3C44-492E-963D-547DFE91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2BA32-CEEC-4598-ABEC-A0172DA0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F7679-9D9E-44A0-8A08-6591503D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1B668-D438-44C1-B5E0-A271BD0B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B4913-37D0-4314-AAF9-70709454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57F5D-5891-4434-B55B-BBA82E1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416-BD60-4099-A4C6-1C893FC8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4AC4B-6A3A-4FEB-9600-903C28AF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A4895-7A18-4AE1-BAA5-5D0F3A5B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4A582-4925-4399-B6B6-D617B7DE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1794E-E171-4B27-B6D4-093FF4B0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A0201-22FE-4ED4-A492-D125A985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C3391-B54A-4213-9FBA-F1F3BCDE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F3721-38F8-406E-8948-37D10086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36308-529C-40AB-B4B1-F2B8B4EF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77533-595B-492B-90E5-D39A0BCF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E1346-960C-4DAE-BB24-E21BCD8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4C4-D857-4085-BE7C-1B41DFA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F7142-C6DB-4026-8417-F0225CBF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EB494-D5F0-428A-AB51-AEBD45E1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67F38-8BD9-4054-8BE4-12D6085B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C1321-49FC-449C-847D-15642129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BFAF7-B767-4450-A1F5-A6412DDE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BD0-A9D3-4ED3-AAB6-88648CA0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43FC-E920-4D23-A8D5-28FBE6DD17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57E7-0EDB-405B-9EC7-F6639A16A9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EA42-F91D-48FF-8E26-66ED677CE7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FE19-3A74-404F-B9A8-E2D6AB54FF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CA54-34E2-4072-92F0-3D598F2CD2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EFE-6AF5-4042-BBF3-6814BE5B0E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81EB-C39D-488B-9B28-6F4D208682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a075-e921-11dc-95ff-0800200c9a66/3_19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МБОУ «Верх-Жилинская ООШ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Косихинский район Алтай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6a55"/>
                </a:solidFill>
                <a:latin typeface="Century Schoolbook"/>
              </a:rPr>
              <a:t>ЛИТЕРАТУРА /ЭЛЕКТРОННЫЕ РЕСУРСЫ/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а. 8 класс. - М.: Дрофа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омов С.В., Родина Н.А. Физика. 9 класс – М.: Просвещение, 200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ашик В.И., Иванова Е.В. Сборник задач по физике 7-9 класс – М.: Просвещение, 200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ботарева В.А. Тесты по физике. 8 класс – Издательство «Экзамен»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47.coi.spb.ru›fizkultminutka.do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ladanova.ucoz.com/load/planirovanie/kursy_kruzhki_i_mnogoe_drugoe/uroki_fiziki_8_klass/24-1-0-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536120"/>
            <a:ext cx="835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 u="sng">
                <a:solidFill>
                  <a:srgbClr val="db5353"/>
                </a:solidFill>
                <a:uFillTx/>
                <a:latin typeface="Times New Roman"/>
                <a:ea typeface="Calibri"/>
                <a:hlinkClick r:id="rId1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/>
  <dcterms:modified xsi:type="dcterms:W3CDTF">2013-08-04T03:12:44Z</dcterms:modified>
  <cp:revision>94</cp:revision>
  <dc:subject/>
  <dc:title/>
</cp:coreProperties>
</file>